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0D6E-4429-4255-9037-DE41DBD38B5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CE8A-E4CD-4371-8E06-EDD65B9FCC5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0CAA-F586-467B-87C9-8A43C2ECE0D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5E67-6BCD-46CE-B822-83D9A19B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1509-65F7-4629-9216-19B0259B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E38D1-6DAA-4EC0-B664-D63B926D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1324D-506E-449D-A9B4-137E5286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F00B4-3918-4BE8-82F6-45B947F4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A022E-FD63-4881-A7EB-CFBAB973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29FF4-8715-4BD6-816E-C00A57BC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F00A9-323C-4649-A05A-266A9A1B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9CDA0-3E2F-4C16-8D50-3C694788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480EC-B550-42DA-B7F8-B080A9A1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7E813-B4D0-466D-977B-7094CB1F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0D3BD-B15F-4112-ABE2-FEF493F8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A9F6-810E-4C85-A276-DD2D3F15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7394F-C381-4C2A-B4FA-10435271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A9EDD-71E4-43CB-842E-C2DE1B7D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6E0E5-39A1-4871-84B5-345D113E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67652-CEA6-4DAF-8D9F-FAF2F871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0F804-385B-4232-BDF3-A5934148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8AA25-58E8-4973-B5C2-6230F0F2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5F1FD-9FE4-4DDE-8078-ED497558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4162E-8857-4E02-8F23-3D9D8E17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5AFBD-9BC5-4473-8CBA-F8F740AA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FA95E-DBC1-454D-BED4-7D9FF01F0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A16E-E38B-4737-9194-47A1C0D1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FC41B-2977-41CE-B0CE-E92BDE4C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2DFCD-F3C1-4795-8E31-10EBE2D5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2BFB8-FFE0-41C8-A443-FAC9A93A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5F4A3-7CA9-4493-86D1-A544F8F2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357B9-48B9-48DD-9A64-2C0D575E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36E11-6A2E-4BB0-ADAB-1BE93E69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8C374-4B64-4859-84DC-E73527FE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B0AB8-199C-4D96-BA86-6EB9D5C0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F5B17-B067-4175-A77C-64F81754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49965-AA77-4027-AAF4-0D3F0E06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69BB-CF15-4DD7-BFE5-D0118BD4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14684-3325-4840-B2F2-AA130FEB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F55BB-EC7B-4B86-B871-64085CAA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893AF-EE6D-46B5-B414-6CC49FF2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8554-FC30-4E08-B896-0F1CB859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92B2-7679-4939-A260-7F7ECAA3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5ABD-406B-4C6F-9FBA-716125CB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7486-93C8-4639-BB82-07AA7FAB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20B6-1C71-434A-A70C-CF9C8F61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3CD8-1B74-4F9B-A145-E9FCDE33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9F84-64EB-4DDC-BFA7-D229A07A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CE60-48EA-4B95-9EA9-412D8ADB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6DB6-9F5D-4ECD-9018-44364955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169F-668C-4660-966C-EC1FDC68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EC01-5A29-4015-9A56-274A1067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14FC-4313-41FE-BE97-93E10F79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58916-2E5D-4297-AFCC-ED9A4892D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D3C08-7EBB-4C6B-9C9F-187F85C3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6DF91-F8B9-448D-B764-DCA9E2D4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40167-FF86-4102-ADCD-7719C71A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B7F34-707D-4311-8672-A8EE7519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D2DA-B4A5-4CD0-9E4C-ABE4FB23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33FA8-CAD5-49D6-8783-9A532E01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B1F64-8EF2-4FC5-ABFC-09F90802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D9A6C-76EE-4A8A-9463-2FA73691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8ABFE-894E-4C36-AC04-02F96232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E0C58-E13D-42E8-B5F5-1510AEFA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91F53-CC81-470C-892F-E22BAD90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8DEBD-7F6E-48C2-83F7-93A45344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EB7A5-07FE-4EEE-BB77-D26B6888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82FC0-0C80-45E5-9E78-A9EAF1A4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F4932-ECA9-47FD-BF94-6D7A2E90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3923-C9CB-43C0-90C8-5E93D76F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3FB7D-4382-46B8-8479-D0F71E22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3AB35-7E92-4EF2-8848-D3A05B50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D33AC-6070-4C97-AA22-6D75BDEE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A4892-8BC2-4418-A9B5-FBD673DC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5678A-3A3C-4998-8A94-7C4EFC7F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36D55-72AA-4C0D-87AF-CF2242AE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64DF2-A3C2-4B7D-8ABB-693DEFFF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9172A-B613-4399-B0EB-7E54FB89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1D9DD-EBD0-4173-A69B-1B27F53EC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D4369-9F23-473F-8CD7-D80D9DCF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6A04-6B55-403D-8A4D-C10E3B68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978AC-3058-4AE2-9E74-577D3950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B8D43-8855-4F0C-8D85-A2A1B336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1D259-7832-4E66-BB6F-3C6BB0FF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487BC-E6C9-48D1-8ACF-527BC510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A272A-8606-4068-9306-D5CD31B3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80646-D465-4079-849B-6EC7DE8F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C0B7C-C976-4CA2-8F75-A898448A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1C005-4A23-40B1-BAA4-DD738920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99952-3D44-438F-A60F-0DA75944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926FA-48B7-448B-AFAD-955B2118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62E9-BF14-462F-925A-59028E0C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1007D-C2A2-4143-9588-2998EA89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72FA4-9C9D-43BE-8B91-5580BF5C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CA33B-AA9C-42AA-9FD8-BF222038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5C782-34D0-406B-9EF7-A00565E5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FCFDB-9ACA-4372-882B-11987251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EFBBB-EBAB-4771-98C1-CD08927F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F491D-95FF-40F3-91B3-9BACAB6D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E11EC-B6F5-4C39-9A4B-66093CDF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4EBF1-A824-466B-B885-68AA7158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6E15A-1E08-4D64-A997-E2E22D8D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E725-36D3-488A-BB49-36057142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9F8D6-8822-4B0E-8AA2-70AF7CF5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FCE89-90B0-4811-A53B-DFF22B24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60332-786F-432B-A681-51B81F28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4BBA0-5A96-4996-92C7-41F24A29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73356-B495-4F0F-9573-1A5525B3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1483B-1BB2-4831-B240-C3C6281B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5AED0-6EDA-4BAF-8E50-1C933FA0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B5986-4C3C-49AF-8034-60E3D721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24B2D-72A5-4CA2-BD87-048B6798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B1C0A-963C-4D0F-B3FC-A9127644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D264-E6E0-4CD7-AE52-8361846A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20637-6A96-40D4-BEF9-CA463127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8AC68-C271-442D-8343-B802D1D9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3337F-0345-4248-8226-0B7E8422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797FD-D29E-4815-87A9-57445604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85485-EEAB-4561-9182-2970093A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185ED-9930-40CB-A49A-33AE091C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7B4AD-3E16-4E21-8B14-11C05843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BAB95-DE83-43FE-A29A-1F9900CA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B0472-2802-499C-BA0C-BB29D7CF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EB1C0-AB5F-48BD-B44C-0EEE5F11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0CE1-612D-44A8-9EB6-6D8A456A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7E9D3-1ADB-4DE5-9ECE-7469FB4C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B593A-4039-44DF-8B7F-2222E1C7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5F463-FF4E-439B-B1FE-C5F5FD97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54486-F58C-4838-9A97-8CC98322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DC1B9-7CB6-48DF-BB39-CD628223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CE523-0958-4E1A-A06F-4B299FFE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51C62-9ABC-4E55-A670-80C094C0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E1A30-C779-4056-84F4-9B552298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C8908-F423-4820-BD03-6EA013B2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8D0B7-6238-4984-BBC5-EAEFA936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9163-415F-4004-A2D4-25B0C2BDE510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C43F-E6D0-479C-8772-82F51FA97847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4D29-BB26-41B5-BD2A-64F3A7D298EE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1FC0-B066-46CD-B379-BC2A42E27BB6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C501-90D3-4A38-AE60-ADEF8F74EE03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3117-A565-42B0-AA2D-9D238469502A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09C5-F407-44EA-85F2-8A2E54A911AA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5480-763D-427D-9404-D4F50EFA148B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FD6D-B42E-40A3-A64B-6B52847B2DE0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D1EC-A212-4E5A-B6BC-F99312D286BE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200B-B51A-4A60-838A-791B9592299A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2852640"/>
            <a:ext cx="7848360" cy="13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第十章 纤毛虫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宋体"/>
                <a:ea typeface="宋体"/>
              </a:rPr>
              <a:t>Ciliate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结肠小袋纤毛虫</a:t>
            </a:r>
            <a:br>
              <a:rPr sz="4800"/>
            </a:br>
            <a:r>
              <a:rPr b="1" i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alantidium coli</a:t>
            </a:r>
            <a:endParaRPr b="0" lang="en-US" sz="4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5" descr=""/>
          <p:cNvPicPr/>
          <p:nvPr/>
        </p:nvPicPr>
        <p:blipFill>
          <a:blip r:embed="rId2"/>
          <a:stretch/>
        </p:blipFill>
        <p:spPr>
          <a:xfrm>
            <a:off x="1835280" y="3976560"/>
            <a:ext cx="3201840" cy="288144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4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3043440" cy="3024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形态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268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：椭圆形，无色透明或淡灰绿色，全身披有纤毛。有胞口、胞肛结构。虫体中、后部各有一伸缩泡。染色标本可见大、小核各一个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矩形 2"/>
          <p:cNvSpPr/>
          <p:nvPr/>
        </p:nvSpPr>
        <p:spPr>
          <a:xfrm>
            <a:off x="324000" y="3068640"/>
            <a:ext cx="799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或近球形，淡黄或淡绿色，囊壁厚，染色后可见明显的大核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内容占位符 2" descr=""/>
          <p:cNvPicPr/>
          <p:nvPr/>
        </p:nvPicPr>
        <p:blipFill>
          <a:blip r:embed="rId2"/>
          <a:stretch/>
        </p:blipFill>
        <p:spPr>
          <a:xfrm>
            <a:off x="1990800" y="1262160"/>
            <a:ext cx="5533920" cy="50245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生活史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pSp>
        <p:nvGrpSpPr>
          <p:cNvPr id="497" name="组合 5"/>
          <p:cNvGrpSpPr/>
          <p:nvPr/>
        </p:nvGrpSpPr>
        <p:grpSpPr>
          <a:xfrm>
            <a:off x="2241720" y="1346040"/>
            <a:ext cx="5287680" cy="4365720"/>
            <a:chOff x="2241720" y="1346040"/>
            <a:chExt cx="5287680" cy="4365720"/>
          </a:xfrm>
        </p:grpSpPr>
        <p:sp>
          <p:nvSpPr>
            <p:cNvPr id="498" name="TextBox 3"/>
            <p:cNvSpPr/>
            <p:nvPr/>
          </p:nvSpPr>
          <p:spPr>
            <a:xfrm>
              <a:off x="3852000" y="32850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人体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99" name="TextBox 6"/>
            <p:cNvSpPr/>
            <p:nvPr/>
          </p:nvSpPr>
          <p:spPr>
            <a:xfrm>
              <a:off x="2241720" y="32958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宋体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0" name="TextBox 7"/>
            <p:cNvSpPr/>
            <p:nvPr/>
          </p:nvSpPr>
          <p:spPr>
            <a:xfrm>
              <a:off x="3973680" y="169992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脱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1" name="TextBox 8"/>
            <p:cNvSpPr/>
            <p:nvPr/>
          </p:nvSpPr>
          <p:spPr>
            <a:xfrm>
              <a:off x="6372000" y="2915280"/>
              <a:ext cx="108000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2" name="TextBox 9"/>
            <p:cNvSpPr/>
            <p:nvPr/>
          </p:nvSpPr>
          <p:spPr>
            <a:xfrm>
              <a:off x="6197760" y="4016160"/>
              <a:ext cx="1331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结肠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定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3" name="TextBox 10"/>
            <p:cNvSpPr/>
            <p:nvPr/>
          </p:nvSpPr>
          <p:spPr>
            <a:xfrm>
              <a:off x="2700000" y="1346040"/>
              <a:ext cx="1448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感染期包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4" name="矩形 4"/>
            <p:cNvSpPr/>
            <p:nvPr/>
          </p:nvSpPr>
          <p:spPr>
            <a:xfrm>
              <a:off x="3973680" y="522936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5" name="矩形 12"/>
            <p:cNvSpPr/>
            <p:nvPr/>
          </p:nvSpPr>
          <p:spPr>
            <a:xfrm>
              <a:off x="2268360" y="535140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1187280" y="691920"/>
            <a:ext cx="77774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史过程：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寄生部位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结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殖方式：以二分裂为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传染源：猪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阶段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期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方式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致病与诊断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：滋养体分泌透明质酸酶并借助机械运动侵入结肠黏膜及黏膜下层，引起溃疡（似溶组织内阿米巴痢疾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可能是一种机会致病原虫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、急性型和慢性型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：即初期潜伏型。在粪便中可找到虫体，但无相关症状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2"/>
          <p:cNvSpPr/>
          <p:nvPr/>
        </p:nvSpPr>
        <p:spPr>
          <a:xfrm>
            <a:off x="468360" y="342900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接涂片查滋养体，乙状结肠镜取黏膜组织活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矩形 3"/>
          <p:cNvSpPr/>
          <p:nvPr/>
        </p:nvSpPr>
        <p:spPr>
          <a:xfrm>
            <a:off x="382680" y="714240"/>
            <a:ext cx="828648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型：即痢疾型。发病突然，腹痛、腹泻、黏液血便；可有并发症，也可累及肠外组织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性型：周期性腹泻，或腹泻、便秘交替，常排出黏液但无脓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流行与防治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流行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55640" y="1196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性分布。在我国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省、自治区有散在病例报道。宿主广，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动物可感染此虫，猪为重要的传染源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粪便污染及蝇的机械携带包嚢是重要的传播方式，主要是包嚢污染的食物和饮水经口感染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防治原则同溶组织内阿米巴，注意个人和饮食卫生，加强猪粪便的管理，保护水源，用甲硝唑治疗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3:12:27Z</dcterms:created>
  <dc:creator>shi</dc:creator>
  <dc:description/>
  <dc:language>en-US</dc:language>
  <cp:lastModifiedBy>hzg</cp:lastModifiedBy>
  <dcterms:modified xsi:type="dcterms:W3CDTF">2015-10-05T12:54:03Z</dcterms:modified>
  <cp:revision>27</cp:revision>
  <dc:subject/>
  <dc:title>结肠小袋纤毛虫 Balantidium coli</dc:title>
</cp:coreProperties>
</file>